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3E1-A038-4919-A5EA-8D4012BD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AB5-E279-4467-AA07-C8BAFA64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E1B-514D-4571-B0CD-250F76B6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F6E-67DA-4D5B-96F8-FF5F3812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69BD-25D8-40A0-901A-CAB12740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B987-C94A-4244-A611-E4F96FCC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70AA-FFFC-40F3-854B-95AD433C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F9BA-CCE5-48A7-A524-1FA8323E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A70A-D012-41FA-8D8C-23A42AE9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F325-BEE9-4A61-BE1D-4697AD2F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62E5-2E6D-4138-8C7A-D950F27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D81-2068-4296-B3E7-EBA6ED5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B2E9-B4AB-4CB8-985D-0D8AB641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5023-EBDC-4609-9420-674E865D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ABF1-5361-4336-85E7-4D059A3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76B0-D00B-489E-A871-93AB43A3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55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6998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16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55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6998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CEDF-B7CB-4E3F-B9D0-A863F1BC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A54-615C-4A61-853D-F4127237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CC4-06B8-475E-8145-72DB3221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DA7-CE4F-4951-8860-E76A5B3A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768-2B98-4E90-BBB3-CE02F1E1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E56-2271-418A-9CD1-E0CAB89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F57-5DAD-410A-B594-222850C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AFC-3D52-4A7D-B6BD-D7A9239B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10080" y="6400800"/>
            <a:ext cx="3733920" cy="457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500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30520" y="6257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95F3-1E19-4C54-8C4D-DD68F200FAB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58200" y="649116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36B2-07E1-46C2-A79A-BCF8CD12207F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00800"/>
            <a:ext cx="54100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14600" y="6400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1st Century Workforce: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entral Illin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887D-15D6-46F5-B0F0-E92329F981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f21@WorkforceAssociates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amazon.com/images/P/1558130616.01.LZZZZZZZ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dickjudy@WorkforceAssociates.com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21</a:t>
            </a:r>
            <a:r>
              <a:rPr b="0" lang="en-US" sz="5400" spc="-1" strike="noStrike" baseline="30000">
                <a:solidFill>
                  <a:srgbClr val="333399"/>
                </a:solidFill>
                <a:latin typeface="Tahoma"/>
              </a:rPr>
              <a:t>st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Century Workforce: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Central Illino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W. J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f21@WorkforceAssociate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7-841-0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etitive success in a “knowledge-based” ec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pends on the ability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e new ideas, transform old ones, &amp; convert them into intellectual proper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orporate &amp; commercialize knowledge into products &amp; servi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quickly to rapidly changing opportunities, threats and other market condi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ckly acquire new technologies, skills and knowled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rue for communities, companies and individual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entral Illinois must become part of America’s new “knowledge-based” economy or  fall behin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" cy="706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3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nted: A strategy for economic development in C.I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I. has lacked a coherent strategy &amp; defined direction for its economic development in the early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ioscience initiative and its outgrowths are steps in the right dire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need more than one vine to climb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.I.’s workforce growth has lagged seriously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70120" y="1673280"/>
          <a:ext cx="738504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1673280"/>
                    <a:ext cx="738504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orker dearth:  The </a:t>
            </a: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quantitativ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workforce challen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" cy="567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5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752480"/>
          <a:ext cx="75056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5056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cope with potential worker dearth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ment workforce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ur growth of working age popul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st participation rates among all group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luding minorities, women, older residents and persons with disabiliti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net inbound commu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se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investment &amp; improve manag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workforce qua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the match of workers with job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" cy="567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5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roving workforce quality: What it means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merica’s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y “knowledge-based” economy, a successful person and a valuable worker will n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 powers of flexibility, creativity, and the capability to quickly acquire new skills &amp;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tivation and ability to quickly learn what he/she does not yet kn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ound basic edu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ound high-school education is an essential prerequis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out it, the prospect is for a life of dismal jobs and meager earn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room for improvement in C.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2000-2001, nearly 700 C.I. high students dropped out of scho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ly 500 of those will never receive a high school diploma or G.E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the course of 10 years, that totals to 5,000 young peopl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among those who do graduate, too many fail to demonstrate at least the minimum level of achievement according to state standardized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" cy="567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6 </a:t>
            </a:r>
            <a:r>
              <a:rPr b="1" lang="en-US" sz="6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81201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mproving K-12 education is key to workforce development in C.I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-12 education is the most important formal workforce development most people ever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dropout rates &amp; raise graduation r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learning outcome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gnitive skills (The four “Rs” – reading, ‘riting, ‘rithmetic, and reasoning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&amp; computer ski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 skills” including teamwork, leadership &amp; customer relations, &amp; other “people” ski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find and use information and to learn things that you don’t already kn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must continue throughout lif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ynamic and ever-changing “knowledge-based” economy means that one’s old skills &amp; knowledge can become obsolete rapidly &amp; frequ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intain their employability &amp; earning power, workers must retool, refresh &amp; augment their skills &amp; knowledge continual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umbent workforce nee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ool, refresh, gain new skill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pportun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do 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atch of workers with job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ready pretty good in C.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it can be improv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er counsel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ginal work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umbent work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&amp; worker assess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profil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hensive and up-to-date labor market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3200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 promising area for business-education collabor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57440" y="3505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Workforce 2020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was the starting poi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133720"/>
            <a:ext cx="2519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.I.’s workforce development syste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improved in recent yea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it is still too fragmen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agencies &amp; departments delivering serv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with its own funding streams and bureaucratic turf to def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edes full implementation of the “one-stop” 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past time to bury all bureaucratic and other parochial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n key 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C.I. a “Learning Community” and “brand” it as su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high school dropout rates &amp; raise graduation r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educational outcomes of K-12 edu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 proper mix of educational and training opportunities as well as of career guidance and counse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he C.I. worker training and retraining system the nation’s most responsive &amp; 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219320" cy="307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978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a learning community?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Two essential component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wareness among all members of the community of the value and critical importance of education and lifetime lear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vid enthusiasm and drive for learning &amp; knowledge throughout the commun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pport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ordable and accessible opportunity for every person of every age to further their drive for learning and self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219320" cy="6822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Co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n key challenge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conclude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ruit &amp; retain a skilled workforce pool for Central Illino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barriers to workforce participation for a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C.I. highly attractive place to live &amp; work for the kind of talent needed. (PE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together.  Banish petty parochialis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ng the Bioscience Strategy and other viable economic development strategies to fru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219320" cy="469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ahoma"/>
              </a:rPr>
              <a:t>Co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Very Mu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W. J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dickjudy@WorkforceAssociat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7-841-0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ntral Illinois defined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47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ve axio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onomic Development and Workforce Development are “joined at the hi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region needs a strong export s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ivity is the key to growth &amp; prosper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s for progress &amp; change must come from the in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llow-through and implementation are the keys to su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ief look at how Central Illinois has fared economically in recent yea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 basic findings of the stu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cenarios of the fu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a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entury workforce for Central Illinois: 10 key challe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826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area’s economic growth has lagged the state’s and nation’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90720" y="1755720"/>
          <a:ext cx="768348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5720"/>
                    <a:ext cx="76834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0"/>
            <a:ext cx="914400" cy="641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cent years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con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entral Illinois’ Three Historical Eras of Economic Development, Early Times Into the 21st Century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n impressionistic view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4754" r="0" b="0"/>
          <a:stretch/>
        </p:blipFill>
        <p:spPr>
          <a:xfrm>
            <a:off x="1523880" y="1905120"/>
            <a:ext cx="6553440" cy="43815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ntral Illinois needs new &amp; stronger “export” clus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rt or d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ucive condi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lent schools &amp; culture of lear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frastru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 and reasonable ta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itutional &amp; government coh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nal coop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class public serv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orkforce adequate in quantity and high in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2384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werful forces are creating a “knowledge economy” in Americ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ces driving chang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ing industrial &amp; occupational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ound demographic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" cy="63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0:29:22Z</dcterms:created>
  <dc:creator>Richard W. Judy</dc:creator>
  <dc:description/>
  <dc:language>en-US</dc:language>
  <cp:lastModifiedBy>g1efd00</cp:lastModifiedBy>
  <dcterms:modified xsi:type="dcterms:W3CDTF">2002-11-20T20:54:01Z</dcterms:modified>
  <cp:revision>89</cp:revision>
  <dc:subject/>
  <dc:title>Slide 1</dc:title>
</cp:coreProperties>
</file>