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1E0-AF81-465B-99C5-71C9FAA3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84A-ACF3-4009-9066-D590512F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3D9-AA5B-4BC8-84D0-BC6168AA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A1B-E4AD-4D15-A5AB-8010CF17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A4C0-3A17-4C1C-B1BB-AB5E0500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7934-74F9-4F13-8D25-F943A844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E484-0183-4B57-ADC5-3485629E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67C7-DFFA-4544-803E-0BC75FE3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AD92-BD04-4532-9A65-51EA9434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9950-895A-4C9C-A684-9270184B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EB9A-C3C9-49D1-9936-FFAFCDC0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043-F4A2-4FA1-BC84-CD606B0F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5564-F8DC-4B22-8B3D-00A9DF93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E5F4-2FBF-4E28-B5F4-953965CD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082E-81F4-4152-988D-40DFC214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DE7F-7179-4C7C-8DD5-1E17BA42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2C1A-6724-4B56-AE87-81FEB569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9A5F-7FC2-45BB-8366-ADAFEB38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45F-DC45-4132-B9D2-4112CBFF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1B9-EE2C-4898-B11E-3F60B470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17C-3FB5-4A77-8A1E-3C6A8671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97A-C4B7-474B-83AC-5713F1D2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498-10FE-42F7-904E-4D9C82EF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0EB-3D4A-4763-A474-513F8B7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10080" y="6400800"/>
            <a:ext cx="373392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500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30520" y="6257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2F95-3499-485D-BAEF-D4778694A66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58200" y="6491160"/>
            <a:ext cx="685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2D00-079E-447B-9AF7-E6BC4BA6CAA4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00800"/>
            <a:ext cx="54100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14600" y="6400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1st Century Workforce: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entral Illin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4F6C-5C14-496C-BB62-BAD8277A96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f21@WorkforceAssociates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amazon.com/images/P/1558130616.01.LZZZZZZZ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dickjudy@WorkforceAssociates.com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21</a:t>
            </a:r>
            <a:r>
              <a:rPr b="0" lang="en-US" sz="54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Century Workforce: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Central Illino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W. J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f21@WorkforceAssoci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7-841-0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etitive success in a “knowledge-based” ec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pends on the ability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e new ideas, transform old ones, &amp; convert them into intellectual proper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orporate &amp; commercialize knowledge into products &amp; servi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quickly to rapidly changing opportunities, threats and other market condi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ckly acquire new technologies, skills and knowled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rue for communities, companies and individual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entral Illinois must become part of America’s new “knowledge-based” economy or  fall behin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" cy="706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3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(conc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nted: A strategy for economic development in C.I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I. has lacked a coherent strategy &amp; defined direction for its economic development in the early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ioscience initiative and its outgrowths are steps in the right dire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need more than one vine to climb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.I.’s workforce growth has lagged seriously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70120" y="1673280"/>
          <a:ext cx="738504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1673280"/>
                    <a:ext cx="738504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orker dearth:  The </a:t>
            </a: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quantitativ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workforce challen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" cy="567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5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(conc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752480"/>
          <a:ext cx="75056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5056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cope with potential worker dearth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 workforce grow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ur growth of working age popu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st participation rates among all group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luding minorities, women, older residents and persons with disabiliti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net inbound commu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se produ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investment &amp; improve manag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workforce qua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the match of workers with job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" cy="567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5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(conc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workforce quality: What it means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merica’s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ntury “knowledge-based” economy, a successful person and a valuable worker will ne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 powers of flexibility, creativity, and the capability to quickly acquire new skills &amp;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tivation and ability to quickly learn what he/she does not yet kn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ound basic edu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ound high-school education is an essential prerequis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out it, the prospect is for a life of dismal jobs and meager earn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room for improvement in C.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2000-2001, nearly 700 C.I. high students dropped out of scho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ably 500 of those will never receive a high school diploma or G.E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the course of 10 years, that totals to 5,000 young peopl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among those who do graduate, too many fail to demonstrate at least the minimum level of achievement according to state standardized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" cy="567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6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(conc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81201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mproving K-12 education is key to workforce development in C.I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-12 education is the most important formal workforce development most people ever exper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dropout rates &amp; raise graduation r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learning outcom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gnitive skills (The four “Rs” – reading, ‘riting, ‘rithmetic, and reasoning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&amp; computer ski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 skills” including teamwork, leadership &amp; customer relations, &amp; other “people” ski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find and use information and to learn things that you don’t already kn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must continue throughout lif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ynamic and ever-changing “knowledge-based” economy means that one’s old skills &amp; knowledge can become obsolete rapidly &amp; frequ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intain their employability &amp; earning power, workers must retool, refresh &amp; augment their skills &amp; knowledge continual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umbent workforce nee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ool, refresh, gain new skill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pportun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do 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atch of workers with job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ready pretty good in C.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it can be improv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er counsel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ginal work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umbent work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&amp; worker assess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 profil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ehensive and up-to-date labor market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3200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 promising area for business-education collabor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57440" y="3505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Workforce 2020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was the starting poi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133720"/>
            <a:ext cx="2519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.I.’s workforce development syst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improved in recent ye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it is still too fragmen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agencies &amp; departments delivering servi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with its own funding streams and bureaucratic turf to def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edes full implementation of the “one-stop” 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past time to bury all bureaucratic and other parochial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n key 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C.I. a “Learning Community” and “brand” it as su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high school dropout rates &amp; raise graduation r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educational outcomes of K-12 edu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 proper mix of educational and training opportunities as well as of career guidance and counse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he C.I. worker training and retraining system the nation’s most responsive &amp; 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219320" cy="307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978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a learning community?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Two essential component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wareness among all members of the community of the value and critical importance of education and lifetime lear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vid enthusiasm and drive for learning &amp; knowledge throughout the commun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pport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fordable and accessible opportunity for every person of every age to further their drive for learning and self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219320" cy="6822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Co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n key challenge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conclude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ruit &amp; retain a skilled workforce pool for Central Illino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barriers to workforce participation for 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C.I. highly attractive place to live &amp; work for the kind of talent needed. (PE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together.  Banish petty parochial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ng the Bioscience Strategy and other viable economic development strategies to fru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219320" cy="469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Co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Very Mu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W. J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dickjudy@WorkforceAssociat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7-841-01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ntral Illinois defined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01000" cy="474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ve axio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onomic Development and Workforce Development are “joined at the hip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region needs a strong export se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ivity is the key to growth &amp; prosper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s for progress &amp; change must come from the in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llow-through and implementation are the keys to su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ief look at how Central Illinois has fared economically in recent yea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 basic findings of the stu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cenarios of the fu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a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ntury workforce for Central Illinois: 10 key challe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826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area’s economic growth has lagged the state’s and nation’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1755720"/>
          <a:ext cx="768348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5720"/>
                    <a:ext cx="76834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0"/>
            <a:ext cx="914400" cy="641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cent years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con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entral Illinois’ Three Historical Eras of Economic Development, Early Times Into the 21st Century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n impressionistic view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14754" r="0" b="0"/>
          <a:stretch/>
        </p:blipFill>
        <p:spPr>
          <a:xfrm>
            <a:off x="1523880" y="1905120"/>
            <a:ext cx="6553440" cy="43815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ntral Illinois needs new &amp; stronger “export” clus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ort or d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ucive condi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lent schools &amp; culture of lear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frastru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 and reasonable ta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itutional &amp; government coh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onal coop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class public servi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orkforce adequate in quantity and high in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owerful forces are creating a “knowledge economy” in Ameri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ces driving chan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ing industrial &amp; occupational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ound demographic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0:29:22Z</dcterms:created>
  <dc:creator>Richard W. Judy</dc:creator>
  <dc:description/>
  <dc:language>en-US</dc:language>
  <cp:lastModifiedBy>g1efd00</cp:lastModifiedBy>
  <dcterms:modified xsi:type="dcterms:W3CDTF">2002-11-20T20:54:01Z</dcterms:modified>
  <cp:revision>89</cp:revision>
  <dc:subject/>
  <dc:title>Slide 1</dc:title>
</cp:coreProperties>
</file>