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67D-DD61-457D-9302-ABEF3182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E86-BD04-4F67-A7F5-1689258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D4E-8E99-419C-AA66-6F89E279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810-631B-4AE6-BCD6-93215D76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A4E-2824-48BF-A963-15D18C76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964-78FB-42CD-A662-0FE26619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31C-3B89-4277-A48C-06581247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95A-472D-4BFD-8A01-0CDADBD6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3E3-200A-443A-AC5B-8D2DECFA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BCC-1447-4B65-AC12-E742F811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BC3-1942-48F9-9AC5-D11095D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52E-0D6F-4798-BE6C-C8FC0F87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06A-9EF9-4C8F-806E-05E61C0E1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Improving Prospects for Displaced Workers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120" y="4648320"/>
            <a:ext cx="4876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ert J. LaLo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rving B. Harris Graduate School of Public Policy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iversity of Chic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Why Yes and No?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ins for displaced work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community college school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e simil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ose experienced by younger persons from formal school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n mind private cost of attending school is higher for older wo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pacts are mod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mpared to likely earnings losses due to displac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60% of completers complete 4 or fewer cour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Retraining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What are the Questions?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retraining displaced workers a productive investment for society and for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retraining substantially reduce the costs to displaced workers of losing a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Defining Displaced Workers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: most people who lose a job have not held the job for very 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 loss is not especially cos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consider these displaced wo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: on average job loss is very costly for people who have held a job for a long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S reports: 3 + years prior ten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irm specific skill/attribute is l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Pattern of Displaced Workers’ Earnings Losses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hy is Job Loss Costly?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0" cy="35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609588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6172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6160" y="22096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n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590920"/>
            <a:ext cx="0" cy="350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99880" y="23623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 of job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8320" y="2743200"/>
            <a:ext cx="4572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340080"/>
            <a:ext cx="6248160" cy="2070000"/>
          </a:xfrm>
          <a:custGeom>
            <a:avLst/>
            <a:gdLst/>
            <a:ahLst/>
            <a:rect l="l" t="t" r="r" b="b"/>
            <a:pathLst>
              <a:path w="3936" h="1215">
                <a:moveTo>
                  <a:pt x="0" y="104"/>
                </a:moveTo>
                <a:cubicBezTo>
                  <a:pt x="220" y="60"/>
                  <a:pt x="440" y="16"/>
                  <a:pt x="672" y="8"/>
                </a:cubicBezTo>
                <a:cubicBezTo>
                  <a:pt x="904" y="0"/>
                  <a:pt x="1200" y="0"/>
                  <a:pt x="1392" y="56"/>
                </a:cubicBezTo>
                <a:cubicBezTo>
                  <a:pt x="1583" y="111"/>
                  <a:pt x="1704" y="160"/>
                  <a:pt x="1824" y="344"/>
                </a:cubicBezTo>
                <a:cubicBezTo>
                  <a:pt x="1943" y="527"/>
                  <a:pt x="1984" y="1104"/>
                  <a:pt x="2112" y="1160"/>
                </a:cubicBezTo>
                <a:cubicBezTo>
                  <a:pt x="2239" y="1215"/>
                  <a:pt x="2287" y="800"/>
                  <a:pt x="2592" y="680"/>
                </a:cubicBezTo>
                <a:cubicBezTo>
                  <a:pt x="2896" y="559"/>
                  <a:pt x="3704" y="479"/>
                  <a:pt x="3936" y="44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76520" y="2742840"/>
            <a:ext cx="6248160" cy="7621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6324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3505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48720" y="28954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25200" y="34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86960" y="3108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3240" y="617220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21520" y="6172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What Retraining?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employm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 Search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ai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s designed for displaced work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 courses in community colleges and private technical/vocational schools.(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-the-Job training with private employers. (OJ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intensity particip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Experimental Evidenc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xas Worker Readjustment Demon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ton &amp; El Paso 1984 - 85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pre-displacement tenure: 3 - 4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collar job holders: 2/3 Houston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st per particip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2001$): $5,000; $1,7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A followed by CT (Houston) or OJT (El P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 weeks of training ~ 20 wee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ion rates ~ 7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rnings Impacts (first follow-up year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: $800 (5%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: $1,675* (2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Non-Experimental Evidenc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evaluation of returns to community college schooling in Washington St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cobson, LaLonde, and Sulli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100,000 displaced workers: 1990 - 199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% enroll in community colle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% complete at least one (for credit) cou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age: 36 (men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7 (wom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rs complete 2/3 of an academic year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nings Impacts (long-term impacts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: $1,100* (7%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: $972* (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Can We Teach Old Dogs New Tricks?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 under and over 35 year ol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nings Impa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der 3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:  $730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men: $930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ver 3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$1,140*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men: $720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er displaced work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 likely to enro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and complete community college cour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9:59:39Z</dcterms:created>
  <dc:creator>Robert J. LaLonde</dc:creator>
  <dc:description/>
  <dc:language>en-US</dc:language>
  <cp:lastModifiedBy>g1efd00</cp:lastModifiedBy>
  <cp:lastPrinted>2002-11-20T21:52:31Z</cp:lastPrinted>
  <dcterms:modified xsi:type="dcterms:W3CDTF">2002-11-26T15:39:05Z</dcterms:modified>
  <cp:revision>13</cp:revision>
  <dc:subject/>
  <dc:title>Improving Prospects for Displaced Workers</dc:title>
</cp:coreProperties>
</file>