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1A2-1F24-4728-8FAA-1820E17C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7F6-68E0-432D-93A7-9AAC5394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CCC-6822-48FC-BFA0-F9AB4FA0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5FE-118E-4F5D-980A-BD3B9E31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283-25AA-4A01-9FFE-7879FEED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C30-2007-4F5A-8A7F-C7E4A78F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B33-9D0D-4E7E-8D38-918142FB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C77-2287-49AF-8016-559A54B3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067-E749-4A53-8518-675880B1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508-1AC8-4264-A53C-37276041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B91-574C-4182-BD8A-913F37C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639-92B5-468A-93AE-04DA2D1A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96C8-00BE-4E8D-8FDF-ACD7852E9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Improving Prospects for Displaced Workers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120" y="4648320"/>
            <a:ext cx="4876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ert J. LaLo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rving B. Harris Graduate School of Public Policy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niversity of Chic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Why Yes and No?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ins for displaced work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community college school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 simi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those experienced by younger persons from formal school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n mind private cost of attending school is higher for older work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mpacts are mod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mpared to likely earnings losses due to displac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60% of completers complete 4 or fewer cour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The Bottom Line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Retraining Wor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What are the Questions?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retraining displaced workers a productive investment for society and for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retraining substantially reduce the costs to displaced workers of losing a jo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Defining Displaced Workers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: most people who lose a job have not held the job for very 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b loss is not especially cos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consider these displaced work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: on average job loss is very costly for people who have held a job for a long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S reports: 3 + years prior ten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irm specific skill/attribute is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Pattern of Displaced Workers’ Earnings Losses</a:t>
            </a:r>
            <a:br>
              <a:rPr sz="4400"/>
            </a:b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hy is Job Loss Costly?)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0" cy="350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609588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6172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6160" y="22096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n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590920"/>
            <a:ext cx="0" cy="350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99880" y="23623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 of job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48320" y="2743200"/>
            <a:ext cx="4572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340080"/>
            <a:ext cx="6248160" cy="2070000"/>
          </a:xfrm>
          <a:custGeom>
            <a:avLst/>
            <a:gdLst/>
            <a:ahLst/>
            <a:rect l="l" t="t" r="r" b="b"/>
            <a:pathLst>
              <a:path w="3936" h="1215">
                <a:moveTo>
                  <a:pt x="0" y="104"/>
                </a:moveTo>
                <a:cubicBezTo>
                  <a:pt x="220" y="60"/>
                  <a:pt x="440" y="16"/>
                  <a:pt x="672" y="8"/>
                </a:cubicBezTo>
                <a:cubicBezTo>
                  <a:pt x="904" y="0"/>
                  <a:pt x="1200" y="0"/>
                  <a:pt x="1392" y="56"/>
                </a:cubicBezTo>
                <a:cubicBezTo>
                  <a:pt x="1583" y="111"/>
                  <a:pt x="1704" y="160"/>
                  <a:pt x="1824" y="344"/>
                </a:cubicBezTo>
                <a:cubicBezTo>
                  <a:pt x="1943" y="527"/>
                  <a:pt x="1984" y="1104"/>
                  <a:pt x="2112" y="1160"/>
                </a:cubicBezTo>
                <a:cubicBezTo>
                  <a:pt x="2239" y="1215"/>
                  <a:pt x="2287" y="800"/>
                  <a:pt x="2592" y="680"/>
                </a:cubicBezTo>
                <a:cubicBezTo>
                  <a:pt x="2896" y="559"/>
                  <a:pt x="3704" y="479"/>
                  <a:pt x="3936" y="44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76520" y="2742840"/>
            <a:ext cx="6248160" cy="7621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352680"/>
            <a:ext cx="6324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3505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28954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25200" y="34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86960" y="3108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3240" y="617220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1520" y="6172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What Retraining?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employmen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b Search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rai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s designed for displaced work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 courses in community colleges and private technical/vocational schools.(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-the-Job training with private employers. (OJ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intensity particip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Experimental Evidence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xas Worker Readjustment Demon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ston &amp; El Paso 1984 - 85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pre-displacement tenure: 3 - 4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 collar job holders: 2/3 Houston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st per particip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2001$): $5,000; $1,7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A followed by CT (Houston) or OJT (El Pas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n weeks of training ~ 20 wee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rates ~ 7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rnings Impacts (first follow-up year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: $800 (5%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: $1,675* (2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Non-Experimental Evidence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 evaluation of returns to community college schooling in Washington St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cobson, LaLonde, and Sulli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100,000 displaced workers: 1990 - 199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% enroll in community colle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% complete at least one (for credit) cou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age: 36 (men)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7 (wom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rs complete 2/3 of an academic year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nings Impacts (long-term impacts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: $1,100* (7%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: $972* (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Can We Teach Old Dogs New Tricks?</a:t>
            </a:r>
            <a:endParaRPr b="0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 under and over 35 year ol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nings Impa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der 3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:  $730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men: $930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ver 3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$1,140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men: $720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er displaced work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 likely to enro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and complete community college cour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9:59:39Z</dcterms:created>
  <dc:creator>Robert J. LaLonde</dc:creator>
  <dc:description/>
  <dc:language>en-US</dc:language>
  <cp:lastModifiedBy>g1efd00</cp:lastModifiedBy>
  <cp:lastPrinted>2002-11-20T21:52:31Z</cp:lastPrinted>
  <dcterms:modified xsi:type="dcterms:W3CDTF">2002-11-26T15:39:05Z</dcterms:modified>
  <cp:revision>13</cp:revision>
  <dc:subject/>
  <dc:title>Improving Prospects for Displaced Workers</dc:title>
</cp:coreProperties>
</file>