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sldImg"/>
          </p:nvPr>
        </p:nvSpPr>
        <p:spPr>
          <a:xfrm>
            <a:off x="11764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1" name="PlaceHolder 3"/>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4"/>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0827970A-A007-496E-8623-FA6F9AC2633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5160"/>
            <a:ext cx="4641840" cy="3481560"/>
          </a:xfrm>
          <a:prstGeom prst="rect">
            <a:avLst/>
          </a:prstGeom>
          <a:ln w="0">
            <a:noFill/>
          </a:ln>
        </p:spPr>
      </p:sp>
      <p:sp>
        <p:nvSpPr>
          <p:cNvPr id="17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may wonder about the timing of this confenence at a time when we should perhaps be focussing on the macro economic situation….well, when we planned this conference,  we were expecting that we would be experience a growing work force at this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that what it may, we expect that phenom to begin so, and we will need to pick up where we left off during the late 1990s,  pondering how we will address the work force challenges and opportunities of the century in this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ought I’d hit just a few high points of the economy and work force of Midwest….(eastern Midwest) as a baseline going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meant to be comprehensive, but to give us all same picture of Midwest as go on to discuss specific topics/issue areas during th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t attempt to illustrate or prove any assertions, but will gladly share sources and divergent opinions afte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6480" y="695160"/>
            <a:ext cx="4641840" cy="3481560"/>
          </a:xfrm>
          <a:prstGeom prst="rect">
            <a:avLst/>
          </a:prstGeom>
          <a:ln w="0">
            <a:noFill/>
          </a:ln>
        </p:spPr>
      </p:sp>
      <p:sp>
        <p:nvSpPr>
          <p:cNvPr id="18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roit-Ann Arbor-Flint…..5-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ago……   9 million CMSA…….5 sta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million in 5 state are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5160"/>
            <a:ext cx="4641840" cy="3481560"/>
          </a:xfrm>
          <a:prstGeom prst="rect">
            <a:avLst/>
          </a:prstGeom>
          <a:ln w="0">
            <a:noFill/>
          </a:ln>
        </p:spPr>
      </p:sp>
      <p:sp>
        <p:nvSpPr>
          <p:cNvPr id="18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lightly greater retired population   (circa….19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y Bernat….smallest rural counties experiencing GROWTH of mfg. (foodp processing, but more)…per capital income falls vs. metro areas;  mfg. wage trend metro vs. non metro i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W modestly older…..shows up in paucity of 25-34 year olds…..especially in rural areas…..large urban areas have younger immigrant (Hispanic population) and other minority with higher birth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generally aging,  (med age. 33 yrs 1990; 36.5, 2000, 40 yrs by 2025) will MW age even more so, and what are WF i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orce implications of age on both demand side…..goods such as health carein higher demand (troublesome to rural areas, but ample job opportunities in such occupations as home health care aides and med. Assts.)…..on the supply side, what will it mean to wages and productivity?  (Sullivan/Aaronson)  How can we accommodate older worlers in work force participation? (blue collar vs. white in MW; eg.. Transportation  prefereences differ).  (WF part rate of 55+ males climbing since 1995)….both income (401k; Soc Security) and subtitution effects (SS incentives/tax falling)  suggest it will continu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6480" y="695160"/>
            <a:ext cx="4641840" cy="3481560"/>
          </a:xfrm>
          <a:prstGeom prst="rect">
            <a:avLst/>
          </a:prstGeom>
          <a:ln w="0">
            <a:noFill/>
          </a:ln>
        </p:spPr>
      </p:sp>
      <p:sp>
        <p:nvSpPr>
          <p:cNvPr id="19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 highly specialized from 1890 - 1950, a long time, especially SIC 33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debate about whether it was (is) “agglomeration” or comparative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oubtedly both…(Comp Advantage)…during this time, shipment of final goods cheaper, but resource inputs, especially coal and iron ore were high cost and regionally concentrated…..as petroleum and gas, and electricity replaced coal, specialization diminished (Sukkoo K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element of agglomeration as well….labor  intensity accomodated by ability to feed workers in “factory neighborhoods”….proximity of machinery and steel and final goods (autos) are in evidence as well….today, we still see this at regional level….(Hewings)…..and JIT  has perhaps stengthed it for auto inter-industr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higher incomes?  (Possibly market structure (scale/oligopoly) and unionization; disequilibrium adjustment (convergence); returns to edu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6480" y="695160"/>
            <a:ext cx="4641840" cy="3481560"/>
          </a:xfrm>
          <a:prstGeom prst="rect">
            <a:avLst/>
          </a:prstGeom>
          <a:ln w="0">
            <a:noFill/>
          </a:ln>
        </p:spPr>
      </p:sp>
      <p:sp>
        <p:nvSpPr>
          <p:cNvPr id="19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WES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west declined beginning in the 1970s, accelerating sharply during late 1970s and early 1980s, began  remarkable recovery in mid-1980s… continuing into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 turnaround here by severa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come, 2.  mfg. share of nation, 3. job growt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6480" y="695160"/>
            <a:ext cx="4641840" cy="3481560"/>
          </a:xfrm>
          <a:prstGeom prst="rect">
            <a:avLst/>
          </a:prstGeom>
          <a:ln w="0">
            <a:noFill/>
          </a:ln>
        </p:spPr>
      </p:sp>
      <p:sp>
        <p:nvSpPr>
          <p:cNvPr id="19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cade or sub-par incom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llowed by climb out of 90-91 rec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easing relative to the nation during late 1990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6480" y="695160"/>
            <a:ext cx="4641840" cy="3481560"/>
          </a:xfrm>
          <a:prstGeom prst="rect">
            <a:avLst/>
          </a:prstGeom>
          <a:ln w="0">
            <a:noFill/>
          </a:ln>
        </p:spPr>
      </p:sp>
      <p:sp>
        <p:nvSpPr>
          <p:cNvPr id="19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around led by mfg……!!!!! 19.6% in 1978 (peak)….19.3 today (low of 17%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to consider that share of nation once again between 19-2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region that has not been the epicenter of “high tech” mfg. renaiss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6480" y="695160"/>
            <a:ext cx="4641840" cy="3481560"/>
          </a:xfrm>
          <a:prstGeom prst="rect">
            <a:avLst/>
          </a:prstGeom>
          <a:ln w="0">
            <a:noFill/>
          </a:ln>
        </p:spPr>
      </p:sp>
      <p:sp>
        <p:nvSpPr>
          <p:cNvPr id="19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total  job growth, the Midwest was actually outgrowing US from mid 1980s to mid 1990s….even through a recession………………….. who would have gu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and job growth have since fallen below the nation…..is it a harbinger of a return to MW economic mala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you can tell us informally today what your views 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6480" y="695160"/>
            <a:ext cx="4641840" cy="3481560"/>
          </a:xfrm>
          <a:prstGeom prst="rect">
            <a:avLst/>
          </a:prstGeom>
          <a:ln w="0">
            <a:noFill/>
          </a:ln>
        </p:spPr>
      </p:sp>
      <p:sp>
        <p:nvSpPr>
          <p:cNvPr id="20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WE LUCKY (transitory) OR WERE WE GOOD (fundamental restru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were good….new technologies, firm re-building, adjusting to higher oil prices with grea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lso an eleme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nap-back in MW (as dollar value, ag sector re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d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amp; L……    defense build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6480" y="695160"/>
            <a:ext cx="4641840" cy="3481560"/>
          </a:xfrm>
          <a:prstGeom prst="rect">
            <a:avLst/>
          </a:prstGeom>
          <a:ln w="0">
            <a:noFill/>
          </a:ln>
        </p:spPr>
      </p:sp>
      <p:sp>
        <p:nvSpPr>
          <p:cNvPr id="20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MW recovery is painful….we have purchased higher incomes through greater workforce participation…. A recovery of re-employment rather than a pay r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ge 16+….66% 2001 in MW,  vs. 63.8 for U.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6480" y="695160"/>
            <a:ext cx="4641840" cy="3481560"/>
          </a:xfrm>
          <a:prstGeom prst="rect">
            <a:avLst/>
          </a:prstGeom>
          <a:ln w="0">
            <a:noFill/>
          </a:ln>
        </p:spPr>
      </p:sp>
      <p:sp>
        <p:nvSpPr>
          <p:cNvPr id="20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arnings per worker MW vs. US.   Vs. per capita income MW v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line is earnings per worker; Green is P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MW,  through 1987, “wages” are higher than US, even while PCY is 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94, PCY has recovered, but relative earnings/per worker have not led the way, but rather,  HIGHER work force participation has done so….there was not an ability of the MW economy to generate high earnings despite theso-called “workforce shortage”  here during the late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very interesting from human welfare standpoint……BUT ALSO for the work force questions it raises for the near and longer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Partridge, the labor market wizard of St. Cloud, MN, is researching whether wage changes clear  regional marke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6480" y="695160"/>
            <a:ext cx="4641840" cy="3481560"/>
          </a:xfrm>
          <a:prstGeom prst="rect">
            <a:avLst/>
          </a:prstGeom>
          <a:ln w="0">
            <a:noFill/>
          </a:ln>
        </p:spPr>
      </p:sp>
      <p:sp>
        <p:nvSpPr>
          <p:cNvPr id="17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most of last century, per capita income in region ran from 5 -10 percent higher than rest of U.S., peaking in 1950.  ….  Perhaps 3 -6 percent with COLAs est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wages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L share of nation’s mfg. 22.6% in 1910, peaked at 29 percent in 1950…..still 26 percent in 1970!  (19-20 tod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6480" y="695160"/>
            <a:ext cx="4641840" cy="3481560"/>
          </a:xfrm>
          <a:prstGeom prst="rect">
            <a:avLst/>
          </a:prstGeom>
          <a:ln w="0">
            <a:noFill/>
          </a:ln>
        </p:spPr>
      </p:sp>
      <p:sp>
        <p:nvSpPr>
          <p:cNvPr id="20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that the MW region’s Urate has returned to parity with the national average during the current and recent peried….(green line is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assume a return to full employment in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O assume high growth but NO return to super-national wages and ear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ar term, the pace and degree of growth, and its ability to “employ” the midwest population, will presumably determine much household well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6480" y="695160"/>
            <a:ext cx="4641840" cy="3481560"/>
          </a:xfrm>
          <a:prstGeom prst="rect">
            <a:avLst/>
          </a:prstGeom>
          <a:ln w="0">
            <a:noFill/>
          </a:ln>
        </p:spPr>
      </p:sp>
      <p:sp>
        <p:nvSpPr>
          <p:cNvPr id="20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ow much will MW economic growth be regained/sus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average incomes?  (MW vs. 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fare-to-work population re-employed?  (S &amp;L govt. crisis will and WW will limit income sup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force “shortages” and growth impediments?  (if growth heats up to previous levels, will work force policies center on expanding available workforce….?and thereby accomodating returns to fixed capital/land, and generating workforce opp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5160"/>
            <a:ext cx="4641840" cy="3481560"/>
          </a:xfrm>
          <a:prstGeom prst="rect">
            <a:avLst/>
          </a:prstGeom>
          <a:ln w="0">
            <a:noFill/>
          </a:ln>
        </p:spPr>
      </p:sp>
      <p:sp>
        <p:nvSpPr>
          <p:cNvPr id="21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a second set of questions relates to whether the MIDWEST can break out of its low wage/full employment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quared will address the absolute and relative productivity gains that we might expect to see across U.S. regions in the years 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question is whether public and private  policies can improve on this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of “Economic Development” as the active policy-making art of training/educating  the workforce while, at the same time (and this is importnant!) creating suitable, high-paying local jobs that are suitable for those skills.   Despite the “MW turnaround”, the MW has not seemingly broken out of its “low-wag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6480" y="695160"/>
            <a:ext cx="4641840" cy="3481560"/>
          </a:xfrm>
          <a:prstGeom prst="rect">
            <a:avLst/>
          </a:prstGeom>
          <a:ln w="0">
            <a:noFill/>
          </a:ln>
        </p:spPr>
      </p:sp>
      <p:sp>
        <p:nvSpPr>
          <p:cNvPr id="21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policies that may increase the promise of doing so on the workforce side  will be addre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raining efficacious?  If so, what and for whom?  DEFN: Eco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n we create job opportunities to match? Can we create type of jobs for highly educated young people? (Xmas with the grand-kids)  (I.e. brain d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Job market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w to deal with work force dislocation and industry restru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an we improve on existing job match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there a spatial mismatch related to housing/transport  in metro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 are more and more issues, and we cannot hope to solve all of the issues and problems today……but we do hope to get a better understanding on these issue areas….and perhaps a perspective for policy makers on which ones bear further scrutiny and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5160"/>
            <a:ext cx="4641840" cy="3481560"/>
          </a:xfrm>
          <a:prstGeom prst="rect">
            <a:avLst/>
          </a:prstGeom>
          <a:ln w="0">
            <a:noFill/>
          </a:ln>
        </p:spPr>
      </p:sp>
      <p:sp>
        <p:nvSpPr>
          <p:cNvPr id="17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idwest continues to be much more concentrated than nation in mfg….despite protests of “diversification” …29.5% v. 23.8 in 1978….18.2 vs. 12.7% 2002  (LQ higher though all are divers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related activities in trade/transportation services attendant to mf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6480" y="695160"/>
            <a:ext cx="4641840" cy="3481560"/>
          </a:xfrm>
          <a:prstGeom prst="rect">
            <a:avLst/>
          </a:prstGeom>
          <a:ln w="0">
            <a:noFill/>
          </a:ln>
        </p:spPr>
      </p:sp>
      <p:sp>
        <p:nvSpPr>
          <p:cNvPr id="17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lavant facts by individual  states (aside from all com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WI, MI extremely high, (top 3 in 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owa began period BELOW national average….now abovesignific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llinois decline precipitous…..   A Chicago, especially central city phen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cago morphing into services…especially business/meeting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attachments still to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6480" y="695160"/>
            <a:ext cx="4641840" cy="3481560"/>
          </a:xfrm>
          <a:prstGeom prst="rect">
            <a:avLst/>
          </a:prstGeom>
          <a:ln w="0">
            <a:noFill/>
          </a:ln>
        </p:spPr>
      </p:sp>
      <p:sp>
        <p:nvSpPr>
          <p:cNvPr id="18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you might expect of high income region, educational attainment of young above average, but out-migration and pull of opportunities in other regions has shifted skills distribution away from college-edu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gh school and high school “plus” above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ge and college-plus BELOW  national average (exc. Illinois)…..along with “less than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W a region that continues to lose population share….all save Iowa lost at least one representive to Congress with last Census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ss of share slowed in 1990s, with economic pick-up as MW grew 7-8 percent vs. 13.5 of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cted this to slow somewhat as baby-boom is aging out of high-mobility years…..though depends on “retiremen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rates modestly Northeast and South., and well below WEST (.3 - .4 % of population per yea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5160"/>
            <a:ext cx="4641840" cy="3481560"/>
          </a:xfrm>
          <a:prstGeom prst="rect">
            <a:avLst/>
          </a:prstGeom>
          <a:ln w="0">
            <a:noFill/>
          </a:ln>
        </p:spPr>
      </p:sp>
      <p:sp>
        <p:nvSpPr>
          <p:cNvPr id="18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000, 11.1 percent of population, most since 1930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w metro areas have gained from 57% increase 1990-2000, only Chicago’s 17% in excess of US av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6480" y="695160"/>
            <a:ext cx="4641840" cy="3481560"/>
          </a:xfrm>
          <a:prstGeom prst="rect">
            <a:avLst/>
          </a:prstGeom>
          <a:ln w="0">
            <a:noFill/>
          </a:ln>
        </p:spPr>
      </p:sp>
      <p:sp>
        <p:nvSpPr>
          <p:cNvPr id="18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7B4CC-58D6-463F-BD18-2F266C1E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4259-2AC4-43A0-B0F6-731CF3F6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EE804-3AAA-4319-A33F-C52FD8102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8AA74-92C0-4DC8-9D5C-99E7963B1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CC9E0-FD74-4782-B5E9-6218C2AA3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A47A5-4F2E-401E-B8F6-0457E5045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6BA5-2FF2-4F0B-9094-7776A7FC9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90AB7-2493-479A-921C-DE98FDECE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B4F94-6630-4AD5-8CB0-572ADB450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BC9D8-8D4F-42C9-954C-0B5609345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F0175-CB25-4318-898D-8FC0F1922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009F-9548-4A16-801F-133F94E1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39BF2-829D-4870-8B94-D6A7EFF1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42CD7-8928-410F-BC06-00EADB02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CD3BC-B0E6-4217-95D0-1C5C2A3E5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80A25-84CF-474B-BCC1-7868B6AAA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DF03F-432A-4BA8-AF6C-691B9E377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04340-8EBA-4184-B25E-F9CF9598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8E43-571A-4040-ABDE-BEF7076E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7F1F-436C-4D35-8D02-98ECAC84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7A24-02C5-4611-9125-BF2D9F353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D4A9-2FD4-4551-86BB-E58BFAD3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CDEE-FD32-4196-B8C8-C2646C07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FD0E-9D75-45BA-A36C-7E2D43FB8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21C0-70F4-4771-B847-0D71AA483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DE07-0DBF-4755-9386-8C05F8CA0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Midwest Workforc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Tes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Reserve Bank of Chicag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21, 2002</a:t>
            </a: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District: Current</a:t>
            </a:r>
            <a:br>
              <a:rPr sz="3600"/>
            </a:br>
            <a:r>
              <a:rPr b="0" lang="en-US" sz="3600" spc="-1" strike="noStrike">
                <a:solidFill>
                  <a:srgbClr val="000000"/>
                </a:solidFill>
                <a:latin typeface="Times New Roman"/>
              </a:rPr>
              <a:t>unemployment rates</a:t>
            </a:r>
            <a:endParaRPr b="0" lang="en-US" sz="3600" spc="-1" strike="noStrike">
              <a:solidFill>
                <a:srgbClr val="000000"/>
              </a:solidFill>
              <a:latin typeface="Times New Roman"/>
            </a:endParaRPr>
          </a:p>
        </p:txBody>
      </p:sp>
      <p:pic>
        <p:nvPicPr>
          <p:cNvPr id="138" name="MSA_MAP" descr=""/>
          <p:cNvPicPr/>
          <p:nvPr/>
        </p:nvPicPr>
        <p:blipFill>
          <a:blip r:embed="rId2"/>
          <a:stretch/>
        </p:blipFill>
        <p:spPr>
          <a:xfrm>
            <a:off x="2057400" y="838080"/>
            <a:ext cx="5548320" cy="731376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lated employment close to U.S. average; many rural towns struggl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ing decentralizing to rural towns, but income gains are palt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profile similar on average--older in rural areas, younger in large urban areas</a:t>
            </a: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ic perspective</a:t>
            </a:r>
            <a:endParaRPr b="0" lang="en-US" sz="36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on became high-income during late 19th and early 20th century through agriculture, manufacturing &amp; urbanization</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s of high wealth and sustainability?</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 resources: transport, energy, land</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lomeration</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structure? (union, oligopoly,</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s-equilibrium)</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l and rise (and fall?)</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capita incom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west share of nation’s manufactur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ment growth</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 capita income vs. U.S.</a:t>
            </a:r>
            <a:endParaRPr b="0" lang="en-US" sz="3600" spc="-1" strike="noStrike">
              <a:solidFill>
                <a:srgbClr val="000000"/>
              </a:solidFill>
              <a:latin typeface="Times New Roman"/>
            </a:endParaRPr>
          </a:p>
        </p:txBody>
      </p:sp>
      <p:graphicFrame>
        <p:nvGraphicFramePr>
          <p:cNvPr id="146" name=""/>
          <p:cNvGraphicFramePr/>
          <p:nvPr/>
        </p:nvGraphicFramePr>
        <p:xfrm>
          <a:off x="914400" y="2057400"/>
          <a:ext cx="7605720" cy="3794040"/>
        </p:xfrm>
        <a:graphic>
          <a:graphicData uri="http://schemas.openxmlformats.org/presentationml/2006/ole">
            <p:oleObj progId="Excel.Sheet.12" r:id="rId2" spid="">
              <p:embed/>
              <p:pic>
                <p:nvPicPr>
                  <p:cNvPr id="147" name="" descr=""/>
                  <p:cNvPicPr/>
                  <p:nvPr/>
                </p:nvPicPr>
                <p:blipFill>
                  <a:blip r:embed="rId3"/>
                  <a:stretch/>
                </p:blipFill>
                <p:spPr>
                  <a:xfrm>
                    <a:off x="914400" y="2057400"/>
                    <a:ext cx="7605720" cy="3794040"/>
                  </a:xfrm>
                  <a:prstGeom prst="rect">
                    <a:avLst/>
                  </a:prstGeom>
                  <a:ln w="0">
                    <a:noFill/>
                  </a:ln>
                </p:spPr>
              </p:pic>
            </p:oleObj>
          </a:graphicData>
        </a:graphic>
      </p:graphicFrame>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W manufacturing job share of the U.S</a:t>
            </a:r>
            <a:endParaRPr b="0" lang="en-US" sz="3600" spc="-1" strike="noStrike">
              <a:solidFill>
                <a:srgbClr val="000000"/>
              </a:solidFill>
              <a:latin typeface="Times New Roman"/>
            </a:endParaRPr>
          </a:p>
        </p:txBody>
      </p:sp>
      <p:graphicFrame>
        <p:nvGraphicFramePr>
          <p:cNvPr id="149" name=""/>
          <p:cNvGraphicFramePr/>
          <p:nvPr/>
        </p:nvGraphicFramePr>
        <p:xfrm>
          <a:off x="838080" y="1895400"/>
          <a:ext cx="7772400" cy="3828960"/>
        </p:xfrm>
        <a:graphic>
          <a:graphicData uri="http://schemas.openxmlformats.org/presentationml/2006/ole">
            <p:oleObj progId="Excel.Sheet.12" r:id="rId2" spid="">
              <p:embed/>
              <p:pic>
                <p:nvPicPr>
                  <p:cNvPr id="150" name="" descr=""/>
                  <p:cNvPicPr/>
                  <p:nvPr/>
                </p:nvPicPr>
                <p:blipFill>
                  <a:blip r:embed="rId3"/>
                  <a:stretch/>
                </p:blipFill>
                <p:spPr>
                  <a:xfrm>
                    <a:off x="838080" y="1895400"/>
                    <a:ext cx="7772400" cy="382896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ployment growth</a:t>
            </a:r>
            <a:endParaRPr b="0" lang="en-US" sz="3600" spc="-1" strike="noStrike">
              <a:solidFill>
                <a:srgbClr val="000000"/>
              </a:solidFill>
              <a:latin typeface="Times New Roman"/>
            </a:endParaRPr>
          </a:p>
        </p:txBody>
      </p:sp>
      <p:graphicFrame>
        <p:nvGraphicFramePr>
          <p:cNvPr id="152" name=""/>
          <p:cNvGraphicFramePr/>
          <p:nvPr/>
        </p:nvGraphicFramePr>
        <p:xfrm>
          <a:off x="838080" y="1922400"/>
          <a:ext cx="7772400" cy="3774960"/>
        </p:xfrm>
        <a:graphic>
          <a:graphicData uri="http://schemas.openxmlformats.org/presentationml/2006/ole">
            <p:oleObj progId="Excel.Sheet.12" r:id="rId2" spid="">
              <p:embed/>
              <p:pic>
                <p:nvPicPr>
                  <p:cNvPr id="153" name="" descr=""/>
                  <p:cNvPicPr/>
                  <p:nvPr/>
                </p:nvPicPr>
                <p:blipFill>
                  <a:blip r:embed="rId3"/>
                  <a:stretch/>
                </p:blipFill>
                <p:spPr>
                  <a:xfrm>
                    <a:off x="838080" y="1922400"/>
                    <a:ext cx="7772400" cy="377496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west recovery: Transitory?</a:t>
            </a:r>
            <a:endParaRPr b="0" lang="en-US" sz="3600" spc="-1" strike="noStrike">
              <a:solidFill>
                <a:srgbClr val="000000"/>
              </a:solidFill>
              <a:latin typeface="Times New Roman"/>
            </a:endParaRPr>
          </a:p>
        </p:txBody>
      </p:sp>
      <p:sp>
        <p:nvSpPr>
          <p:cNvPr id="15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tructuring fundamental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ie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m re-structuring/industry shift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diosycratic factor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amp; L crisi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se build-down/base closing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ling dollar</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energy prices</a:t>
            </a: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Participation not wages (employ/population)</a:t>
            </a:r>
            <a:endParaRPr b="0" lang="en-US" sz="3600" spc="-1" strike="noStrike">
              <a:solidFill>
                <a:srgbClr val="000000"/>
              </a:solidFill>
              <a:latin typeface="Times New Roman"/>
            </a:endParaRPr>
          </a:p>
        </p:txBody>
      </p:sp>
      <p:graphicFrame>
        <p:nvGraphicFramePr>
          <p:cNvPr id="157" name=""/>
          <p:cNvGraphicFramePr/>
          <p:nvPr/>
        </p:nvGraphicFramePr>
        <p:xfrm>
          <a:off x="838080" y="2001960"/>
          <a:ext cx="7772400" cy="3614760"/>
        </p:xfrm>
        <a:graphic>
          <a:graphicData uri="http://schemas.openxmlformats.org/presentationml/2006/ole">
            <p:oleObj progId="Excel.Sheet.12" r:id="rId2" spid="">
              <p:embed/>
              <p:pic>
                <p:nvPicPr>
                  <p:cNvPr id="158" name="" descr=""/>
                  <p:cNvPicPr/>
                  <p:nvPr/>
                </p:nvPicPr>
                <p:blipFill>
                  <a:blip r:embed="rId3"/>
                  <a:stretch/>
                </p:blipFill>
                <p:spPr>
                  <a:xfrm>
                    <a:off x="838080" y="2001960"/>
                    <a:ext cx="7772400" cy="3614760"/>
                  </a:xfrm>
                  <a:prstGeom prst="rect">
                    <a:avLst/>
                  </a:prstGeom>
                  <a:ln w="0">
                    <a:noFill/>
                  </a:ln>
                </p:spPr>
              </p:pic>
            </p:oleObj>
          </a:graphicData>
        </a:graphic>
      </p:graphicFrame>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Earnings/worker vs.</a:t>
            </a:r>
            <a:br>
              <a:rPr sz="3600"/>
            </a:br>
            <a:r>
              <a:rPr b="0" lang="en-US" sz="3600" spc="-1" strike="noStrike">
                <a:solidFill>
                  <a:srgbClr val="000000"/>
                </a:solidFill>
                <a:latin typeface="Times New Roman"/>
              </a:rPr>
              <a:t>income per capita</a:t>
            </a:r>
            <a:endParaRPr b="0" lang="en-US" sz="3600" spc="-1" strike="noStrike">
              <a:solidFill>
                <a:srgbClr val="000000"/>
              </a:solidFill>
              <a:latin typeface="Times New Roman"/>
            </a:endParaRPr>
          </a:p>
        </p:txBody>
      </p:sp>
      <p:graphicFrame>
        <p:nvGraphicFramePr>
          <p:cNvPr id="160" name=""/>
          <p:cNvGraphicFramePr/>
          <p:nvPr/>
        </p:nvGraphicFramePr>
        <p:xfrm>
          <a:off x="1143000" y="2057400"/>
          <a:ext cx="7165800" cy="3792600"/>
        </p:xfrm>
        <a:graphic>
          <a:graphicData uri="http://schemas.openxmlformats.org/presentationml/2006/ole">
            <p:oleObj progId="Excel.Sheet.12" r:id="rId2" spid="">
              <p:embed/>
              <p:pic>
                <p:nvPicPr>
                  <p:cNvPr id="161" name="" descr=""/>
                  <p:cNvPicPr/>
                  <p:nvPr/>
                </p:nvPicPr>
                <p:blipFill>
                  <a:blip r:embed="rId3"/>
                  <a:stretch/>
                </p:blipFill>
                <p:spPr>
                  <a:xfrm>
                    <a:off x="1143000" y="2057400"/>
                    <a:ext cx="7165800" cy="3792600"/>
                  </a:xfrm>
                  <a:prstGeom prst="rect">
                    <a:avLst/>
                  </a:prstGeom>
                  <a:ln w="0">
                    <a:noFill/>
                  </a:ln>
                </p:spPr>
              </p:pic>
            </p:oleObj>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ginally high income/high wage reg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ue-collar” region; manufacturing concentration”</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rticipation recovery:” </a:t>
            </a:r>
            <a:br>
              <a:rPr sz="3600"/>
            </a:br>
            <a:r>
              <a:rPr b="0" lang="en-US" sz="3600" spc="-1" strike="noStrike">
                <a:solidFill>
                  <a:srgbClr val="000000"/>
                </a:solidFill>
                <a:latin typeface="Times New Roman"/>
              </a:rPr>
              <a:t>To be repeated? (unemployment)</a:t>
            </a:r>
            <a:endParaRPr b="0" lang="en-US" sz="3600" spc="-1" strike="noStrike">
              <a:solidFill>
                <a:srgbClr val="000000"/>
              </a:solidFill>
              <a:latin typeface="Times New Roman"/>
            </a:endParaRPr>
          </a:p>
        </p:txBody>
      </p:sp>
      <p:graphicFrame>
        <p:nvGraphicFramePr>
          <p:cNvPr id="163" name=""/>
          <p:cNvGraphicFramePr/>
          <p:nvPr/>
        </p:nvGraphicFramePr>
        <p:xfrm>
          <a:off x="838080" y="2001960"/>
          <a:ext cx="7772400" cy="3614760"/>
        </p:xfrm>
        <a:graphic>
          <a:graphicData uri="http://schemas.openxmlformats.org/presentationml/2006/ole">
            <p:oleObj progId="Excel.Sheet.12" r:id="rId2" spid="">
              <p:embed/>
              <p:pic>
                <p:nvPicPr>
                  <p:cNvPr id="164" name="" descr=""/>
                  <p:cNvPicPr/>
                  <p:nvPr/>
                </p:nvPicPr>
                <p:blipFill>
                  <a:blip r:embed="rId3"/>
                  <a:stretch/>
                </p:blipFill>
                <p:spPr>
                  <a:xfrm>
                    <a:off x="838080" y="2001960"/>
                    <a:ext cx="7772400" cy="361476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and (other) issues</a:t>
            </a:r>
            <a:endParaRPr b="0" lang="en-US" sz="36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How much will MW economic growth be regained/sustain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average incom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fare-to-work population re-employ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force “shortages” and growth</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ediments?</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and (other issues)</a:t>
            </a:r>
            <a:endParaRPr b="0" lang="en-US" sz="3600" spc="-1" strike="noStrike">
              <a:solidFill>
                <a:srgbClr val="000000"/>
              </a:solidFill>
              <a:latin typeface="Times New Roman"/>
            </a:endParaRPr>
          </a:p>
        </p:txBody>
      </p:sp>
      <p:sp>
        <p:nvSpPr>
          <p:cNvPr id="16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ow productive the Midwest workfor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n MW “Development” be accomplish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tech/creative class occupations an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rms.</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licies/priorities for the Midwe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where to focus?  (jobs to match?)</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market efficiency (spatial and otherwi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igration &amp; assimilat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ating an older/diverse work forc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ral economic transit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son released population issues</a:t>
            </a: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on of manufacturing</a:t>
            </a:r>
            <a:endParaRPr b="0" lang="en-US" sz="3600" spc="-1" strike="noStrike">
              <a:solidFill>
                <a:srgbClr val="000000"/>
              </a:solidFill>
              <a:latin typeface="Times New Roman"/>
            </a:endParaRPr>
          </a:p>
        </p:txBody>
      </p:sp>
      <p:graphicFrame>
        <p:nvGraphicFramePr>
          <p:cNvPr id="120" name=""/>
          <p:cNvGraphicFramePr/>
          <p:nvPr/>
        </p:nvGraphicFramePr>
        <p:xfrm>
          <a:off x="838080" y="1895400"/>
          <a:ext cx="7772400" cy="3828960"/>
        </p:xfrm>
        <a:graphic>
          <a:graphicData uri="http://schemas.openxmlformats.org/presentationml/2006/ole">
            <p:oleObj progId="Excel.Sheet.12" r:id="rId2" spid="">
              <p:embed/>
              <p:pic>
                <p:nvPicPr>
                  <p:cNvPr id="121" name="" descr=""/>
                  <p:cNvPicPr/>
                  <p:nvPr/>
                </p:nvPicPr>
                <p:blipFill>
                  <a:blip r:embed="rId3"/>
                  <a:stretch/>
                </p:blipFill>
                <p:spPr>
                  <a:xfrm>
                    <a:off x="838080" y="1895400"/>
                    <a:ext cx="7772400" cy="382896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on of manufacturing</a:t>
            </a:r>
            <a:endParaRPr b="0" lang="en-US" sz="3600" spc="-1" strike="noStrike">
              <a:solidFill>
                <a:srgbClr val="000000"/>
              </a:solidFill>
              <a:latin typeface="Times New Roman"/>
            </a:endParaRPr>
          </a:p>
        </p:txBody>
      </p:sp>
      <p:graphicFrame>
        <p:nvGraphicFramePr>
          <p:cNvPr id="123" name=""/>
          <p:cNvGraphicFramePr/>
          <p:nvPr/>
        </p:nvGraphicFramePr>
        <p:xfrm>
          <a:off x="914400" y="1981080"/>
          <a:ext cx="7605720" cy="3794400"/>
        </p:xfrm>
        <a:graphic>
          <a:graphicData uri="http://schemas.openxmlformats.org/presentationml/2006/ole">
            <p:oleObj progId="Excel.Sheet.12" r:id="rId2" spid="">
              <p:embed/>
              <p:pic>
                <p:nvPicPr>
                  <p:cNvPr id="124" name="" descr=""/>
                  <p:cNvPicPr/>
                  <p:nvPr/>
                </p:nvPicPr>
                <p:blipFill>
                  <a:blip r:embed="rId3"/>
                  <a:stretch/>
                </p:blipFill>
                <p:spPr>
                  <a:xfrm>
                    <a:off x="914400" y="1981080"/>
                    <a:ext cx="7605720" cy="37944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orkforce features</a:t>
            </a:r>
            <a:endParaRPr b="0" lang="en-US" sz="40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attainment--higher HS and HS-plus; lower at “college/college-plus”</a:t>
            </a: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ducational attainment 1990</a:t>
            </a:r>
            <a:endParaRPr b="0" lang="en-US" sz="4400" spc="-1" strike="noStrike">
              <a:solidFill>
                <a:srgbClr val="000000"/>
              </a:solidFill>
              <a:latin typeface="Times New Roman"/>
            </a:endParaRPr>
          </a:p>
        </p:txBody>
      </p:sp>
      <p:graphicFrame>
        <p:nvGraphicFramePr>
          <p:cNvPr id="128" name=""/>
          <p:cNvGraphicFramePr/>
          <p:nvPr/>
        </p:nvGraphicFramePr>
        <p:xfrm>
          <a:off x="838080" y="2590920"/>
          <a:ext cx="7620120" cy="2528640"/>
        </p:xfrm>
        <a:graphic>
          <a:graphicData uri="http://schemas.openxmlformats.org/presentationml/2006/ole">
            <p:oleObj progId="Word.Document.12" r:id="rId2" spid="">
              <p:embed/>
              <p:pic>
                <p:nvPicPr>
                  <p:cNvPr id="129" name="" descr=""/>
                  <p:cNvPicPr/>
                  <p:nvPr/>
                </p:nvPicPr>
                <p:blipFill>
                  <a:blip r:embed="rId3"/>
                  <a:stretch/>
                </p:blipFill>
                <p:spPr>
                  <a:xfrm>
                    <a:off x="838080" y="2590920"/>
                    <a:ext cx="7620120" cy="252864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3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migration led by younger and more educat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in-migration rates lower (often negative); immigration rates positive but lower</a:t>
            </a: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 Born Population in MW Metro areas</a:t>
            </a:r>
            <a:endParaRPr b="0" lang="en-US" sz="3200" spc="-1" strike="noStrike">
              <a:solidFill>
                <a:srgbClr val="000000"/>
              </a:solidFill>
              <a:latin typeface="Times New Roman"/>
            </a:endParaRPr>
          </a:p>
        </p:txBody>
      </p:sp>
      <p:graphicFrame>
        <p:nvGraphicFramePr>
          <p:cNvPr id="133" name=""/>
          <p:cNvGraphicFramePr/>
          <p:nvPr/>
        </p:nvGraphicFramePr>
        <p:xfrm>
          <a:off x="1716120" y="1752480"/>
          <a:ext cx="6016680" cy="4114800"/>
        </p:xfrm>
        <a:graphic>
          <a:graphicData uri="http://schemas.openxmlformats.org/presentationml/2006/ole">
            <p:oleObj progId="Excel.Sheet.12" r:id="rId2" spid="">
              <p:embed/>
              <p:pic>
                <p:nvPicPr>
                  <p:cNvPr id="134" name="" descr=""/>
                  <p:cNvPicPr/>
                  <p:nvPr/>
                </p:nvPicPr>
                <p:blipFill>
                  <a:blip r:embed="rId3"/>
                  <a:stretch/>
                </p:blipFill>
                <p:spPr>
                  <a:xfrm>
                    <a:off x="1716120" y="1752480"/>
                    <a:ext cx="6016680" cy="411480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ban/rural split similar to U.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cities among most segregated</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2T17:29:19Z</dcterms:created>
  <dc:creator>g1was00</dc:creator>
  <dc:description/>
  <dc:language>en-US</dc:language>
  <cp:lastModifiedBy>g1efd00</cp:lastModifiedBy>
  <cp:lastPrinted>2002-11-20T20:33:46Z</cp:lastPrinted>
  <dcterms:modified xsi:type="dcterms:W3CDTF">2002-11-21T13:19:52Z</dcterms:modified>
  <cp:revision>685</cp:revision>
  <dc:subject/>
  <dc:title>Midwest Economic Outlook</dc:title>
</cp:coreProperties>
</file>