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19.jpeg" ContentType="image/jpeg"/>
  <Override PartName="/ppt/media/image29.wmf" ContentType="image/x-wmf"/>
  <Override PartName="/ppt/media/image31.wmf" ContentType="image/x-wmf"/>
  <Override PartName="/ppt/media/image7.jpeg" ContentType="image/jpeg"/>
  <Override PartName="/ppt/media/image12.jpeg" ContentType="image/jpeg"/>
  <Override PartName="/ppt/media/image33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5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media/image30.wmf" ContentType="image/x-wmf"/>
  <Override PartName="/ppt/media/image32.wmf" ContentType="image/x-wmf"/>
  <Override PartName="/ppt/media/image22.wmf" ContentType="image/x-wmf"/>
  <Override PartName="/ppt/media/image20.jpeg" ContentType="image/jpeg"/>
  <Override PartName="/ppt/media/image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jpeg" ContentType="image/jpeg"/>
  <Override PartName="/ppt/media/image18.jpeg" ContentType="image/jpeg"/>
  <Override PartName="/ppt/media/image6.jpeg" ContentType="image/jpeg"/>
  <Override PartName="/ppt/media/image2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0ED-AC20-4FD0-B358-77C5C9D4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0FC-C655-4B1B-BD81-011572A7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8B3E-361F-428B-A88A-77145D88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C24-A5E8-43E5-8319-A49C4F5A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F32-497C-4954-B576-9A3E815F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4F4-A05D-4FBF-8D2A-FA198802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1DE-4C6F-4500-8066-B47FF0BC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F66-CF49-48C3-AB61-C64952E7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2C5-AC0D-46CB-B1C2-0DC51BA1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CB2-A621-4660-9677-2DA7A785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094-7E86-4BCA-ADB0-AF5C44B5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27B-8866-45A1-ACED-932A023A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0E12-E395-4C23-BF9B-6A54EFD53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ent Trends in Worker Qualit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dwest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iel Aaronson and Daniel Sulli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Reserve Bank of Chic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Population Surv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hly “mini censu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Annual Demographic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least 50,000 households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(conveniently) since 19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going Rotation Groups (Earner Stu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least 150,000 households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since 19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WorkerHS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29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WorkerCol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29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Figure2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44212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dGap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29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opNX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29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igure5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7150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Age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age of workers rose over the      last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age declined significantly with entry of baby b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rising again in the mid 198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on we will see a falling share of prime-age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igure6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715000" cy="56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opAvgAge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29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er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A Worker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fies impact on labor productivity of certain aspects of the human capital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rs of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rs of Potential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act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 is not a sufficient stat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ges first rise, then eventually fall with work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: Under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 age: 30-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: 55 and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opYoung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29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opOld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29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opPrime" descr=""/>
          <p:cNvPicPr/>
          <p:nvPr/>
        </p:nvPicPr>
        <p:blipFill>
          <a:blip r:embed="rId1"/>
          <a:stretch/>
        </p:blipFill>
        <p:spPr>
          <a:xfrm>
            <a:off x="-142920" y="-214200"/>
            <a:ext cx="9429840" cy="72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Workforce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ing fraction of work force is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ority share is gr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west has lower share of min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ction married is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west somewhat above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ization is decl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west much higher than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3520" y="743040"/>
          <a:ext cx="8153280" cy="54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43040"/>
                    <a:ext cx="8153280" cy="54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62120" y="798480"/>
          <a:ext cx="7619760" cy="506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98480"/>
                    <a:ext cx="761976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3520" y="739800"/>
          <a:ext cx="7848360" cy="522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39800"/>
                    <a:ext cx="784836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09480" y="793800"/>
          <a:ext cx="8001000" cy="532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93800"/>
                    <a:ext cx="800100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or Quality 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regression model for logarithm of  wages as a func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 (&lt; HS, HS only, Some College, College, Post-gradu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experience (Age minus years of education) interacted with s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variables (Race, Marital statu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er 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several factors underlying labor productivity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s for 0.22 of 2.7 percent average growth in labor productivity since 19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es wage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influenced by public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igure7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32448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Figure8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24852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or Quality 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 wages of sampled workers at time  t0 and time t1 using time t0 re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ratio of average predicted wages in the two peri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 using time t1 re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geometric average to get growth rate of worker quality from t0 to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or Quality 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ome calculations we use a single regression model estimated in the middle (1980) year of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predicted level of wages for a region   in a particular year assuming the national structure of wages in 19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cast 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as given Census Bureau forecasts of population over the dec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a model of educational attainment as a function of age, cohort and  demographic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polate to get educational propensities     for cohorts not yet in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cast 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model of labor force participation as a function of age, cohort, demographic characteristics, and educational attai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polate to get labor force participation propensity for cohorts not yet in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the predicted worker distributions of characteristics using regression model for last tim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Figure9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9436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Figure10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48496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57200" y="652320"/>
          <a:ext cx="8229600" cy="555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52320"/>
                    <a:ext cx="822960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80880" y="1006560"/>
          <a:ext cx="8305920" cy="47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06560"/>
                    <a:ext cx="830592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er Quality 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assumption is that variation in wages across workers reflects pro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cross-sectional data to quantify the impact of worker characteristics on w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es we can quantify the productivity impact of changes over time in the distribution of worker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33520" y="701640"/>
          <a:ext cx="8305560" cy="56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01640"/>
                    <a:ext cx="8305560" cy="56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963720"/>
          <a:ext cx="84582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63720"/>
                    <a:ext cx="84582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57200" y="647640"/>
          <a:ext cx="8153280" cy="55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47640"/>
                    <a:ext cx="815328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04920" y="958680"/>
          <a:ext cx="8458200" cy="489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58680"/>
                    <a:ext cx="8458200" cy="48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Labor Quality in 20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95280" y="2057400"/>
          <a:ext cx="655344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65534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09480" y="787320"/>
          <a:ext cx="8229600" cy="548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87320"/>
                    <a:ext cx="8229600" cy="54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04920" y="533520"/>
          <a:ext cx="8534160" cy="507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853416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422440" y="419040"/>
          <a:ext cx="4297320" cy="60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419040"/>
                    <a:ext cx="429732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85800" y="685800"/>
          <a:ext cx="807732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807732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533520"/>
          <a:ext cx="8001000" cy="545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0010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ological Cav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es all but the most gross variation in education and work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r at Harvard = Year at Community Col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ges may not equal pro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imination, signaling, rat rac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es externalities from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ers may not capture the full benefits their of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133720" y="76320"/>
          <a:ext cx="4560840" cy="653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76320"/>
                    <a:ext cx="456084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er quality growth is slowing due to less favorable demographic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west as a whole very similar to the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ery) modest evidence of the importance of worker quality for gross stat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ew of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quality growth varies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ly rapid in late 1980s and early 1990s (0.5 percentage points per y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about half that f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quality growth likely to slow fur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 levels will be rising more sl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by boomers will be going over the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imilar to the nation as a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caught up to nation in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what better than nation on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, slightly above nation in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stly faster growth over last 2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Educational Attai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arge increases over the last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pid increases in early 1970s and 198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ven by entrance of large baby-boom coh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ing somewhat since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favorable demographics offset increases  in enrollmen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role for adult educ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Figure1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4771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7:33:54Z</dcterms:created>
  <dc:creator>dsullivan</dc:creator>
  <dc:description/>
  <dc:language>en-US</dc:language>
  <cp:lastModifiedBy>g1efd00</cp:lastModifiedBy>
  <cp:lastPrinted>2002-11-21T13:35:18Z</cp:lastPrinted>
  <dcterms:modified xsi:type="dcterms:W3CDTF">2002-12-04T13:43:41Z</dcterms:modified>
  <cp:revision>47</cp:revision>
  <dc:subject/>
  <dc:title>Training Choices of Displaced Workers</dc:title>
</cp:coreProperties>
</file>